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846-8433-4FCA-80F7-B010C3EE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D2D-49E8-4B6A-8507-E111C1A8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41D-ABB8-41EC-9F20-E97D9C64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3A9-A028-4951-9212-5D0F8808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2F68A-294B-4EEF-BC2E-C9F1FCE7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DDF60-AA2A-4A97-88BC-012EE39E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59C60-C455-431E-AA4C-467E721E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B3C45-8044-4102-A4C5-64EE5D54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8CE52-ED2F-426C-B935-2483F4D8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32952-5F6A-49E9-8E7F-EB5948FE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35820-2BAE-420B-9F64-F084623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64A-7D5E-414E-B631-AAB50FB3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4BDEA-F5A6-49C8-AFEF-5CDDD5A2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58098-1839-4100-8CF2-45764D5A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E9D1C-7F81-435C-9433-8724873E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D2F1A-E9DF-4514-B2D7-458DD675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D72D4-88C3-416B-8BA4-98FD07FA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B7A-CD50-4DA1-AC1C-22456040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E97-0093-47FB-9F61-DF6EAEF5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46C-450B-4719-BE02-CA4DFA27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059-E7CB-4578-A5D4-EBB87D7A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223-1A9E-438F-98B4-B859BC24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B7D-DDCD-46D7-B14C-76D723C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539-7E7A-48F6-A945-6FA75FAF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8202-7F5D-4762-B205-69D5BF0EF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9A32-1667-45ED-A8F3-97268B269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library.ru/" TargetMode="External"/><Relationship Id="rId3" Type="http://schemas.openxmlformats.org/officeDocument/2006/relationships/hyperlink" Target="http://www.kostyor.ru/" TargetMode="External"/><Relationship Id="rId4" Type="http://schemas.openxmlformats.org/officeDocument/2006/relationships/hyperlink" Target="http://www.maly.r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Луч света в темном царстве. Права ли была Катерина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Сокотун Мария Валентиновна, студент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урса, фил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вают ли безвыходные ситуа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блемный вопрос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привело Катерину к самоубийству (каковы причины этого поступка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л ли выход из этой ситуации у герои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автор показывает эту пробл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Дидактические цели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твратить суицидальные настроения среди учащихся 10х кла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ытка найти решение из безвыходной ситу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Представление результатов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исследов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и докла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инение, э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кл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эб-сай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должительность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Время выполн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две нед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личество часов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личество уроков: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Этапы проведения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, формулировка 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стоятельная работа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та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Информационные ресурс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филактика суицидального поведения у детей и подростков. Методические рекомендации. Сыктывкар, 2002. Составитель Рожицина А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ай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/>
              </a:rPr>
              <a:t>http://ilibrar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kostyor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http://www.mal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2T08:54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